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E38-7906-4A7E-B272-0D12D396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B19-3AB3-4AC6-9F0B-B2A87926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5EF-2E2F-4058-A7BF-BCBAE49E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14C-E171-407D-B0CE-2EB6C831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6D39-90DB-4B9E-A9A4-D18B5DF5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7C1C-E20A-4CD5-8996-EB63EF71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3BF3-D301-4C05-8620-6E1350A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E3EF-7DF2-41A9-852A-2DE17B1E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64FA-7492-4588-937C-1B155077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60B3-1BCA-4BE4-9EF6-7F4042A6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4531-0C6F-4B86-BACF-3D10A8C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12B-9F3D-46A3-8D63-B8EB8894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632D-80A4-4C5F-BACC-E3412FDA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6DAA-69DB-4746-8E42-F0746DC3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DD8-FF59-4E40-8BBE-E5C487F0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E0E0-D013-4CB9-A1EA-3442B50B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3E89-85D4-49F8-9AD6-9097DE6E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0F6-4550-4C8F-A17D-6857DB20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09F-738C-4894-85B8-1DA6CA5B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6D6-ABD0-41BE-826E-E029ECDB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B24-855D-4FF1-964D-F9F04078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542-C090-45DC-84BC-D9975715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1B7-153C-4541-98CD-9A21C0E8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175-F83B-49A3-BECE-CB0FCD2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3463-FF7F-40D9-A71A-C379886D88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4F12-F719-4EFD-A0D6-3B6EC34C9FB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Go Tell The Good News”</a:t>
            </a:r>
            <a:br>
              <a:rPr sz="5700"/>
            </a:br>
            <a:r>
              <a:rPr b="0" lang="en-US" sz="4300" spc="-1" strike="noStrike">
                <a:solidFill>
                  <a:srgbClr val="ffffcc"/>
                </a:solidFill>
                <a:latin typeface="Arial"/>
              </a:rPr>
              <a:t>Part 1</a:t>
            </a:r>
            <a:br>
              <a:rPr sz="4300"/>
            </a:b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The Church Is Scattered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11, Lesson 9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cts 9:32 - 10:1-4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50-5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next day Peter, six witnesses, and the three men came to Caes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Cornelius was waiting for them with relatives and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Cornelius fell down at Peter’s feet and worshipp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said, “Stand up, I myself am also a m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Cornelius wanted to hear all things commanded by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opened his mouth and said: “In truth I perceive that God shows no partiality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preaches Christ and Him crucified to Cornelius and his fami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While Peter was still speaking, “The Holy Spirit fell upon all those who heard the word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Jewish Christians were astonish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Gentiles were able to speak tongues and magnify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answered, “Can anyone forbid water, that these should not be baptized who had received the Holy Spirit just as we have?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nd they were commanded to be baptized in the name of the Lo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eter Preaches In Lydda And Sharon</a:t>
            </a:r>
            <a:br>
              <a:rPr sz="36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cts 9:32-3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church had a time of pe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left Jerusalem on a tour that      took him among discip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- In Lydda (the Old Testament city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of Lo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-In all the plain of Shar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-In Jopp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-And finally to Caes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heals a paralytic named Aene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Raises Dorcas From The Dead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9:36-4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Dorcas (her Greek name) lived in Joppa, a few miles northeast of Lyd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She was rich in good works and did charitable dee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She became sick and di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Disciples sent for Peter in Lyd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raised Dorcas from the de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ny were converted as the report of the raising of Dorcas spre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 man named Cornelius lived in Caes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was a centurion of the Roman coh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rnelius was a deeply religious man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feared G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With all his hous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prayed continuous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helped the po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rnelius was praying at three o’clock in the afterno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saw an open vision( that is, he was awake, not asleep or dreamin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n angel appeared to him and he was frightened, saying, “What is it, Lord?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he angel said, “Your prayers and your good deeds are observed by God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he angel told him to send men to Joppa to bring back Simon who was surnamed Pe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rnelius sent three men to Jop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three men arrived at Peter’s house around noon the next d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had gone to the housetop to pr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While Peter was praying, he had a vi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saw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The heaven (sky) ope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A great sheet was lowered by the four corners upon the earth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In the sheet were all kinds of four-footed animals, reptiles and bird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voice commanded, “Get up, Peter: kill one of these animals and eat it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’s reply, “No way, Lord, for I have never eaten anything common or uncle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voice replied, “What God has cleansed, do not call common or uncle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is happened three times and the sheet was taken u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had preached on Pentecost, “the promise is to you and to your children and to all that are afar off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Jesus had commanded, “Go ye into all the world and preach the gospel to every creature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Before Peter’s vision, did he understand who the “afar off” wer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vision allowed Peter to understand the gospel was for al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invited the three men to stay in his hou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0:29:31Z</dcterms:created>
  <dc:creator>robert marshall</dc:creator>
  <dc:description/>
  <dc:language>en-US</dc:language>
  <cp:lastModifiedBy>Frank D Vines</cp:lastModifiedBy>
  <dcterms:modified xsi:type="dcterms:W3CDTF">2006-11-12T14:05:27Z</dcterms:modified>
  <cp:revision>12</cp:revision>
  <dc:subject/>
  <dc:title>“Go Tell The Good News” Part 1  The Church Is Scattered</dc:title>
</cp:coreProperties>
</file>